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546-4A46-4516-9790-A15B12C9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9B4-A006-4AAD-A290-E64FBECC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E91-45A6-4908-84D8-80924170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78A-8640-4DD5-9D62-E4BFD9EB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74E2-6B47-4260-83BE-8540A13A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FD1F-DDB7-457E-90F7-D0E6A77C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D8A2-38DB-41A3-BE02-F289398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D81-DF1C-4472-B00A-CBEEE09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13E4-430F-42A9-A2CF-E9347252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5142-3ED6-4D3A-80F5-891A1C50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8FB2-C788-4EDA-8559-9F8A16C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F96-39C5-4EA2-BBE8-798BAC26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49E-35BC-4CF5-9C43-09EF5D5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B10-5F97-48A0-9BBD-9F0A5A0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D11-EB0E-40E0-A3CB-A805D9B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C78-AF37-416F-9C7A-12F00D99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2BEB-3AA5-4979-BCE6-F99B09AE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6942-E1D8-4533-9846-6311912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0E47-8D12-4606-9FFA-2F43AC31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2929-DCA6-494F-93AD-00260B1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2438-76E2-41BD-B403-395B4851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4168-E4A8-4BDA-8F4A-2F473C0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AB5-37C0-4EF2-8107-C1FD726D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DC23-B80A-4C67-88BD-9F1395F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146E7-3936-4164-8BED-DB46D47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31EA-CCD4-4B59-B99B-1B6D4BF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419C-E8CB-4952-A22A-EB1E0E4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2FCC-C9E1-44E8-9745-D6EB4EE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1787-C36F-41DC-81BC-D2252AED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28B4-AF55-4E45-B5E7-C89C25EF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326E-FEB0-4743-AA3D-9E77DA24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4879-4106-4643-87D2-F816D4E9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855EA-CE43-46F3-97ED-FA9DB5E0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A71-0AA3-4E2D-9C9E-4AC65CD8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EF9D-DEDE-417A-8A43-126AED2D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84C3-9D98-4326-92B3-06E0BB4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E66D-767E-4D14-95A1-54AACEF6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1919-C3C1-452A-AE22-CAD57295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FFE7-359A-41F5-A118-369E5C14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3C7C-FEBF-45E6-84F2-7F65B87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A246-1C89-4476-908C-385F995A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6A371-C38F-4724-B39E-EA98AB96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B995-2525-447A-9A3D-A50D9065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86B0-62D2-4651-8B22-ED7A9526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8E0-3CC5-4345-9568-5BC3120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D25C-0D60-454C-95B2-EB3D7559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7D6F-FC62-4512-A85F-CB6F5CB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81AE-3DCD-4C32-B861-F702E63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504E-2136-4F88-8A56-258D6CB4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E8AE-77BA-46BA-A801-C444625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5200-0269-49BB-BBFF-B3AE2C2B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7EAF8-BB03-440B-B8D8-6155D77C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863C-2D56-4779-BF36-2655BC0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F844-74DD-4E82-8D5A-0BADC4C6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5E06-31FB-461F-9C04-A3201207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6A6-9C16-4B2D-89BF-57E202A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67F5-3E20-4240-9F19-1E1A8153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56FEB-80B7-47BB-9CCB-32DD6B24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8FC5-D911-495A-9176-ADA07636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1D87-9AB1-4457-928A-85C28A4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3371-D582-41C4-B625-844DF922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D9F1-505D-46CA-ABA1-AB4EF671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F964-3FBF-44F1-A760-821D076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D27C-76B5-490F-A5BF-CD5D31A3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24CC3-79BD-443D-8F30-1FE4630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36D1-35C8-41FC-B43A-B822586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BA2-ED8F-47AC-8B31-FBB409A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D8F8-4388-4CC0-B7EF-2F039502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8E29-507B-4C74-8784-9709E2E5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AE493-3230-4595-951F-513D9822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133-CC66-473B-A684-2868AAB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670-C45D-4A4B-B884-EFD7A86B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254-AB70-418E-9963-B981BF9A29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155-2D81-4F01-9C36-59DACAEB918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628-78BE-4847-885B-E20F460FDC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B4DF-9532-4D02-A295-1268DB9A700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ADC2-D189-451F-9D96-7349EDCC1E3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89F3-E4E7-431D-B241-4897315F407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1: Rebecca Johnson &amp; Zoey 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1905120" y="335268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e98e"/>
                </a:solidFill>
                <a:latin typeface="Franklin Gothic Book"/>
              </a:rPr>
              <a:t>Kinetic Energy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Defini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netic energy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Energy that an object has because of its mo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netic theory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All matter has tiny particles that are in constant mo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s #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lain why term “kinetic” makes sense when speaking about particle behav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Kinetic energy is the energy an object holds because of its movement and particles are always mov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s #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a gas behave according to the kinetic molecular theory (KMT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Particles in a gas are small, hard spheres with insignificant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Motion of particles in a gas is rapid, constant, and random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Collisions between particles in a gas are elas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 #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is the motion of one particle independent of another particle in a gas sampl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Particles of a gas are relatively far apart, so no attractive or repulsive forces exist between parti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e98e"/>
                </a:solidFill>
                <a:latin typeface="Times New Roman"/>
                <a:ea typeface="Times New Roman"/>
              </a:rPr>
              <a:t>Objective #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astic collision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2d0"/>
                </a:solidFill>
                <a:latin typeface="Arial"/>
              </a:rPr>
              <a:t>Collision in which kinetic energy is transferred without loss from one particle to another, and the total kinetic energy remains const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41:50Z</dcterms:created>
  <dc:creator>13wkim</dc:creator>
  <dc:description/>
  <dc:language>en-US</dc:language>
  <cp:lastModifiedBy>udsd</cp:lastModifiedBy>
  <dcterms:modified xsi:type="dcterms:W3CDTF">2012-04-26T17:44:35Z</dcterms:modified>
  <cp:revision>6</cp:revision>
  <dc:subject/>
  <dc:title>Kinetic Theory </dc:title>
</cp:coreProperties>
</file>